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D11-DB27-4193-A723-296C24F6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B96-B05F-4BF6-8039-C7F50289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70F-56E9-47F5-8022-ECAC3CEA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003-B9F7-4E07-B61A-E1DDA00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D13-48A0-4F09-A77A-714A92A2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FDB-E5A1-4B61-BF61-1AF80D3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D57-1956-46D3-B31F-A65C18D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727-5404-4BFC-BC10-4C7D14D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624-4CA5-4A12-A60B-0ADFB4F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C12-8C0F-4BF1-B505-09D6A08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19D-BC8D-484E-8A96-56F47187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FAF-BCCB-4A08-BC23-3EE8A5D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99ECB98D-AC94-480E-8A17-445A7336E78D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- Management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2C7-DE69-4FB6-8CE1-E608D3F8D2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Items w/r/t Accoun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eep track of items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reasonable estimates” for quarterly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spending to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financial report (Form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592-A110-469D-AA5F-1A33109CC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nth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 submitted on a monthly basis.  Short updates to provide Science Officer with information on the month to month status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medium through which we signal unexpected accomplishments or delay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warning information in the months leading up to a problem is crucial to show that we knew the problem ex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orts are available on the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48320" y="1143000"/>
          <a:ext cx="4038480" cy="39528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237-D510-4271-B571-EE0EFFC42A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arter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supposed to provide quarterly financial updates to the EC.  The information can be estimated.  The purpose is to show that the trends ar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first year, we provided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/manpower expended 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, hardwa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lease, one time paymen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481-CE54-4701-AC47-98434B3EE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nual Repor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eparate agenda item to discuss the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ext year, things to im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outline of document, structured more around work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munication with the financial contacts w/r/t the Form C and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090-4BF7-43B2-A8D4-9D701B23C8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cific Accounting Item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them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y do not have to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%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xperienced institutions are encouraged to obtain a first year audit certif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um recipients will be expected to submit annual 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can not be charged against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you need to go through each individual receipt and remove the VAT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495-84ED-4F1F-B037-02CA04D7E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 Track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manager will start tracking and publishing deliverable compliance as part of the monthly reports to the E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for each deliverable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 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Particip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 Deliver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ual Deliver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” will be displayed numerically on a zero to four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ork initiated &lt; - &gt; Deliverable submitted to PM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E78-3B8C-4913-AA0A-1445AE4388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3C2-3C5A-4316-A089-E5C4183FA0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2T10:53:35Z</dcterms:modified>
  <cp:revision>110</cp:revision>
  <dc:subject/>
  <dc:title>Slide 1</dc:title>
</cp:coreProperties>
</file>